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8DF-BB61-4C84-8E1C-DF066CCF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67B-C1BE-41AA-B112-AFDFAF1C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DCB-E814-44FC-888A-D469384F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E50-9EA3-41A7-AD80-EC30DA2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48C-14CF-428D-8678-8DE5DF9D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E5F-E2B0-44B5-812E-B4FEA084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EB42-DD42-4DC0-84A7-4F7E472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101-E073-42A6-AC3E-F386B95A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0EA-C6B1-40F9-85C9-232A82B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985C-1965-4598-9983-ABAB6955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9A1-1510-4CB4-A4F7-76CCB2C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786-88F1-4D6B-A90D-E9D44DB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BE7E-0D29-4B30-A1A2-EF678C8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BBF-1792-4028-A517-12A1D09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9382-05AE-4815-BA50-95A6FC9A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33C-3C1E-481C-9B22-30AD4407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E74-6688-4F73-9198-CCD748F2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65C-D104-427C-BF50-D54F2644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860-E8DF-4BEB-B635-37D65EBC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CDC-61AC-4E9B-8BB4-719EE62D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CD5-6E84-4F5B-83F5-278A9DB4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4AF-E386-473A-94A9-4DA72EF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BB9-8328-435A-81AC-78F1F75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F24-8427-484C-A97B-B0AD6B89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98A-B7CF-4F41-830B-06CEA8356D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234-18F1-4A2B-9C33-E46EF5FE1F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tiger.towson.edu/users/kmorri2/censorship2&amp;imgrefurl=http://tiger.towson.edu/users/kmorri2/&amp;h=300&amp;w=400&amp;sz=22&amp;hl=en&amp;start=3&amp;um=1&amp;tbnid=orRY5qIIcekosM:&amp;tbnh=93&amp;tbnw=124&amp;prev=/images%3Fq%3Dcensorship%26um%3D1%26hl%3Den%26rls%3DHPIA,HPIA:2006-02,HPIA:en" TargetMode="External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burning books.jpg"/>
          <p:cNvPicPr/>
          <p:nvPr/>
        </p:nvPicPr>
        <p:blipFill>
          <a:blip r:embed="rId2"/>
          <a:stretch/>
        </p:blipFill>
        <p:spPr>
          <a:xfrm>
            <a:off x="2286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286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4572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6858000" y="19810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2"/>
          <a:stretch/>
        </p:blipFill>
        <p:spPr>
          <a:xfrm>
            <a:off x="4572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6858000" y="39625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4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155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155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15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9:22:49Z</dcterms:created>
  <dc:creator>joseph doster</dc:creator>
  <dc:description/>
  <dc:language>en-US</dc:language>
  <cp:lastModifiedBy>joseph doster</cp:lastModifiedBy>
  <dcterms:modified xsi:type="dcterms:W3CDTF">2008-05-03T19:54:28Z</dcterms:modified>
  <cp:revision>4</cp:revision>
  <dc:subject/>
  <dc:title>Slide 1</dc:title>
</cp:coreProperties>
</file>